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812-A4C5-45F0-A91E-99D2BBE0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183-F103-466C-989D-A25111EE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4F2-20BE-497B-BBBD-E1B1AE13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A06-0A3C-40FB-A3CD-2E9E3F25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1F3-9DC1-4E26-B6E2-BC4B8C92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839-DF65-4144-A8C4-0A0EFDD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757-5F74-4DE4-B796-35B11D73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83E-634D-4238-B3F4-CE86DE0A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9A6-F36D-40A0-9A56-55A6EBB2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1F7-29B6-47D9-B2E6-D4A10A6C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2E2-4AE3-4FA1-9962-BBCF6F4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A70-3574-416D-8E8C-069E0C4C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DF20-A11E-42ED-9EFE-29E24A158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9 Božie Slovo skúmaj den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 skúmaj den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radosťou ho otvá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 o jeho pocho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y Pána prijím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j, ži podľa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, váž si Slovo svät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vorí v ňom Pán Boh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ťa viesť na tomto sve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zkou cestou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j, ži podľa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m slovom sýť sa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blúdia, k nemu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v láske neskonal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u tvár dá večne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j, ži podľa ni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26:20Z</dcterms:modified>
  <cp:revision>19</cp:revision>
  <dc:subject/>
  <dc:title>Je veľký náš Pán, on slávy je Kráľ Nech do všetkých strán  spev vrúcnych znie chvál.</dc:title>
</cp:coreProperties>
</file>